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F58F-CF7C-4A8F-8FF4-A2D57AE10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DORA = 3.3% of DH (files) or 3.9 % in terms of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65A6-41B3-4146-B287-BC0218E04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E3F1-6B0A-47F9-A7AB-18100070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9849-3D29-4330-8D97-BAA347FEE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CE1B-9CDA-4932-A0F4-D27386DB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011A-12E7-415C-A413-18733084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32FB-B568-4033-BEBE-95997A22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183B-32F0-4AF1-B03D-F1B77BA4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C583-6CA9-4834-86D0-BB9B1A68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26A6-FEED-4D1E-A4DB-0953E0FE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071E-D542-4E25-84B0-6EBDBEF5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700B-A410-4B0F-9CD8-70EBE185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B084-C1A6-42BA-AAFF-1C4C01E5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089D-DC5F-4C18-AD5B-644071957715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andora.nla.gov.au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61480" y="845640"/>
            <a:ext cx="7953480" cy="57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Times New Roman"/>
              </a:rPr>
              <a:t>Web archiving at the NLA</a:t>
            </a:r>
            <a:br>
              <a:rPr sz="4400"/>
            </a:br>
            <a:r>
              <a:rPr b="0" lang="en-US" sz="4400" spc="-1" strike="noStrike">
                <a:solidFill>
                  <a:srgbClr val="99ccff"/>
                </a:solidFill>
                <a:latin typeface="Times New Roman"/>
              </a:rPr>
              <a:t>‘</a:t>
            </a:r>
            <a:r>
              <a:rPr b="0" i="1" lang="en-US" sz="3600" spc="-1" strike="noStrike">
                <a:solidFill>
                  <a:srgbClr val="99ccff"/>
                </a:solidFill>
                <a:latin typeface="Times New Roman"/>
              </a:rPr>
              <a:t>Archiving the music web’</a:t>
            </a:r>
            <a:br>
              <a:rPr sz="3600"/>
            </a:br>
            <a:br>
              <a:rPr sz="4800"/>
            </a:br>
            <a:r>
              <a:rPr b="0" lang="en-US" sz="2800" spc="-1" strike="noStrike">
                <a:solidFill>
                  <a:srgbClr val="9966ff"/>
                </a:solidFill>
                <a:latin typeface="Times New Roman"/>
              </a:rPr>
              <a:t>Music Council of Australia Annual Assembly</a:t>
            </a:r>
            <a:br>
              <a:rPr sz="2800"/>
            </a:br>
            <a:r>
              <a:rPr b="0" lang="en-US" sz="2800" spc="-1" strike="noStrike">
                <a:solidFill>
                  <a:srgbClr val="9966ff"/>
                </a:solidFill>
                <a:latin typeface="Times New Roman"/>
              </a:rPr>
              <a:t>28 September 2009</a:t>
            </a:r>
            <a:br>
              <a:rPr sz="2800"/>
            </a:br>
            <a:br>
              <a:rPr sz="2000"/>
            </a:br>
            <a:br>
              <a:rPr sz="2000"/>
            </a:br>
            <a:r>
              <a:rPr b="0" i="1" lang="en-US" sz="2800" spc="-1" strike="noStrike">
                <a:solidFill>
                  <a:srgbClr val="99ccff"/>
                </a:solidFill>
                <a:latin typeface="Times New Roman"/>
              </a:rPr>
              <a:t>Paul Koerbin</a:t>
            </a:r>
            <a:br>
              <a:rPr sz="2800"/>
            </a:br>
            <a:r>
              <a:rPr b="0" i="1" lang="en-US" sz="2400" spc="-1" strike="noStrike">
                <a:solidFill>
                  <a:srgbClr val="99ccff"/>
                </a:solidFill>
                <a:latin typeface="Times New Roman"/>
              </a:rPr>
              <a:t>Manager Digital Archiving</a:t>
            </a:r>
            <a:br>
              <a:rPr sz="2400"/>
            </a:br>
            <a:r>
              <a:rPr b="0" i="1" lang="en-US" sz="2400" spc="-1" strike="noStrike">
                <a:solidFill>
                  <a:srgbClr val="99ccff"/>
                </a:solidFill>
                <a:latin typeface="Times New Roman"/>
              </a:rPr>
              <a:t>National Library of Australia</a:t>
            </a:r>
            <a:br>
              <a:rPr sz="2400"/>
            </a:b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14400" y="896760"/>
            <a:ext cx="7772400" cy="56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How can you help? 10 tips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dddddd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eep contributors informed and involved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357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make sure contributors understand and agree to long-term preservation and access from the beginning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dddddd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lear copyright, rights and contact information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357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it helps to know what and who (oh, and trust us too)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dddddd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aintain content online as much as possible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357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increases chance of it being collecte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dddddd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Learn to love and live with your pas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chives are not the same as the ‘live’ web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chived versions cannot be altered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dddddd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o your own back up, of cours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ccff"/>
                </a:solidFill>
                <a:latin typeface="Times New Roman"/>
              </a:rPr>
              <a:t>PANDORA</a:t>
            </a:r>
            <a:br>
              <a:rPr sz="6000"/>
            </a:br>
            <a:r>
              <a:rPr b="0" lang="en-US" sz="4400" spc="-1" strike="noStrike">
                <a:solidFill>
                  <a:srgbClr val="99ccff"/>
                </a:solidFill>
                <a:latin typeface="Times New Roman"/>
              </a:rPr>
              <a:t>Australia’s Web Archive</a:t>
            </a:r>
            <a:endParaRPr b="0" lang="en-US" sz="4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95120" y="4343400"/>
            <a:ext cx="4876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99ff"/>
                </a:solidFill>
                <a:uFillTx/>
                <a:latin typeface="Times New Roman"/>
                <a:hlinkClick r:id="rId2"/>
              </a:rPr>
              <a:t>http://pandora.nla.gov.au/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816120" y="1661760"/>
            <a:ext cx="777240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ddddd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Background –  the what, why and how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ddddd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What makes a valuable resource for archiving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ddddd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What can you do to help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57080" y="707760"/>
            <a:ext cx="7772400" cy="55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What is web archiving about and why do it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rchiving = long-term preservation and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cces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uilding collection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uilding ‘documentary’ historical record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reating artefacts from the web experien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iscovering what is produced onlin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n act of consciousnes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855720"/>
            <a:ext cx="77724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703080"/>
            <a:ext cx="7772400" cy="59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What’s involved in web archiving? At the NLA it’s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Identifying, selecting, scoping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eeking permission to collect and make accessibl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reating and recording metadata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dministrative, descriptive, preservatio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rawling/harvesting (including scheduling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ocessing for quality assurance (best effort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toring and maintaining the dat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lanning and implementing preservation strategie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eparing and rendering for public displa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oviding access and discovery mechanism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93440" y="588600"/>
            <a:ext cx="7840440" cy="58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What is the NLA doing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ANDORA Archive  1996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→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PANDORA participant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LA, state libraries (not Tas), NFSA, AWM, AIATSIS (and soon the NGA)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ighly selective, small scale, ‘quality’ collection, open acces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ANDAS workflow management system, 200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→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ustralian (.au) domain harvest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nnual since 200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Internet Archiv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o access (yet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48880" y="909720"/>
            <a:ext cx="75135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Comparative statistics of NLA web collections 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00240" y="1798560"/>
            <a:ext cx="30844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PANDORA  (selective)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936720" y="2484360"/>
          <a:ext cx="3444840" cy="966960"/>
        </p:xfrm>
        <a:graphic>
          <a:graphicData uri="http://schemas.openxmlformats.org/drawingml/2006/table">
            <a:tbl>
              <a:tblPr/>
              <a:tblGrid>
                <a:gridCol w="1644480"/>
                <a:gridCol w="1800360"/>
              </a:tblGrid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Files: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73 million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Size: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3.26 TB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817560" y="3854520"/>
          <a:ext cx="7931160" cy="2747880"/>
        </p:xfrm>
        <a:graphic>
          <a:graphicData uri="http://schemas.openxmlformats.org/drawingml/2006/table">
            <a:tbl>
              <a:tblPr/>
              <a:tblGrid>
                <a:gridCol w="1341360"/>
                <a:gridCol w="1680120"/>
                <a:gridCol w="1681920"/>
                <a:gridCol w="1613880"/>
                <a:gridCol w="161388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ccff"/>
                          </a:solidFill>
                          <a:latin typeface="Times New Roman"/>
                        </a:rPr>
                        <a:t>Domain Harvest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ccff"/>
                          </a:solidFill>
                          <a:latin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ccff"/>
                          </a:solidFill>
                          <a:latin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ccff"/>
                          </a:solidFill>
                          <a:latin typeface="Times New Roman"/>
                        </a:rPr>
                        <a:t>2007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ccff"/>
                          </a:solidFill>
                          <a:latin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ccff"/>
                          </a:solidFill>
                          <a:latin typeface="Times New Roman"/>
                        </a:rPr>
                        <a:t>Unique files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185 million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596 million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516 million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1 billion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ccff"/>
                          </a:solidFill>
                          <a:latin typeface="Times New Roman"/>
                        </a:rPr>
                        <a:t>Hosts crawled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811,523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1,046,038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1,247,614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3,038,658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ccff"/>
                          </a:solidFill>
                          <a:latin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6.69 TB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19.04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18.47TB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34.55 TB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4840200" y="1719360"/>
            <a:ext cx="34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Verdana"/>
              </a:rPr>
              <a:t>.</a:t>
            </a: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au Domai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Harvest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819680" y="2476440"/>
          <a:ext cx="3809880" cy="947520"/>
        </p:xfrm>
        <a:graphic>
          <a:graphicData uri="http://schemas.openxmlformats.org/drawingml/2006/table">
            <a:tbl>
              <a:tblPr/>
              <a:tblGrid>
                <a:gridCol w="1819080"/>
                <a:gridCol w="1990800"/>
              </a:tblGrid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Files: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2.3 billion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Size: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78.75 TB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914400" y="887400"/>
            <a:ext cx="7772400" cy="52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Music in the PANDORA Archiv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00+ titles available from the PANDORA public listing of musi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FSA   33%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LA     30%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thers   37%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usicians, bands, orchestras, composers, organisations, festivals, blogs, instrument makers, magazines …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lus 280 considered but not availabl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5% (no permission, rejected, yet to be selected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914400" y="90324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What makes a valuable resource for archiving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ontent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ubstantial, original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ovenan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Long-term research value’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ultural or social significance and interes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including event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uratorial/expert suggestion (e.g. Music Australi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ifferent collecting approaches based on ‘value’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iorities, but never say neve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914400" y="896760"/>
            <a:ext cx="7772400" cy="56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How can you help? 10 tips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ddddd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Think about the issue of long term access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what is your intention?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ddddd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ommunicate interest and intentions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with collecting institutions; let us know about your site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respond to requests for permissio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ddddd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Organise and structure sites simply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its all about links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ddddd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omply with standards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limit use of proprietary technology if possibl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ddddd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ake it robot friendly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indexing, discovery, captur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04:02:19Z</dcterms:created>
  <dc:creator>helpsupp</dc:creator>
  <dc:description/>
  <dc:language>en-US</dc:language>
  <cp:lastModifiedBy>pkoerbin</cp:lastModifiedBy>
  <dcterms:modified xsi:type="dcterms:W3CDTF">2009-10-02T01:11:49Z</dcterms:modified>
  <cp:revision>381</cp:revision>
  <dc:subject/>
  <dc:title>PANDORA Australia’s Web Archive</dc:title>
</cp:coreProperties>
</file>